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806-4FC9-4C84-8BD4-B952202F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979-01A2-4480-9ADD-D6D6E3F8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B60-C48F-49FF-8499-2CDC4C4D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C20-5D9F-4F6D-B65B-04FD361F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447-E51A-43FB-A27A-6693905B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F30-9812-47E9-AC6D-AD543339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0751-1FCA-4376-BA51-8FE53DBB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39B-D89D-49FD-8127-065632AE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6CE0-F483-487A-BB5E-14A5B5D9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525-CF42-4E7D-9E39-382EEE42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3ADF-8FB1-49E4-81CC-94346D60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471-B419-41CB-9343-FA7BA68C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5BD0-ECFF-4214-BEC2-0BD4DAF81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nb@univer.kharkov.ua" TargetMode="External"/><Relationship Id="rId3" Type="http://schemas.openxmlformats.org/officeDocument/2006/relationships/hyperlink" Target="mailto:cnb@univer.kharkov.ua" TargetMode="External"/><Relationship Id="rId4" Type="http://schemas.openxmlformats.org/officeDocument/2006/relationships/hyperlink" Target="mailto:cnb@univer.kharkov.ua" TargetMode="External"/><Relationship Id="rId5" Type="http://schemas.openxmlformats.org/officeDocument/2006/relationships/hyperlink" Target="mailto:cnb@univer.kharkov.ua" TargetMode="External"/><Relationship Id="rId6" Type="http://schemas.openxmlformats.org/officeDocument/2006/relationships/hyperlink" Target="mailto:cnb@univer.kharkov.ua" TargetMode="External"/><Relationship Id="rId7" Type="http://schemas.openxmlformats.org/officeDocument/2006/relationships/hyperlink" Target="mailto:cnb@univer.kharkov.ua" TargetMode="External"/><Relationship Id="rId8" Type="http://schemas.openxmlformats.org/officeDocument/2006/relationships/hyperlink" Target="mailto:cnb@univer.kharkov.ua" TargetMode="Externa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Харьковский национальный университет им. В.Н. Каразина</a:t>
            </a:r>
            <a:br>
              <a:rPr sz="2000"/>
            </a:b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Центральная научная библиот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ЧИТАТЕЛЬ И ПОИСКОВАЯ НАВИГАЦИЯ ЭЛЕКТРОННОГО КАТАЛОГА БИБЛИ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Бондаренко И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гл. библиотек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99080" y="2021040"/>
            <a:ext cx="393696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У264 </a:t>
            </a: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(241)</a:t>
            </a:r>
            <a:br>
              <a:rPr sz="4000"/>
            </a:b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ф</a:t>
            </a: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ондовый рынок </a:t>
            </a: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(77)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663300"/>
                </a:solidFill>
                <a:latin typeface="Arial"/>
              </a:rPr>
              <a:t>акции, векселя, облигации, опционы, рынок ценных бумаг, свопы, финансовые деривативы, фондовые биржи, фондовые операции, фьючер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32000" y="189000"/>
            <a:ext cx="310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У26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2672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в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43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р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я1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я2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31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я4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я7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77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    У26я73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58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1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633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2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928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3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346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4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241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8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238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63640" y="2924280"/>
            <a:ext cx="526716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нтральная научная библи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Харьковский национальный университет им. В.Н. Кара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л. Свободы, 4, г. Харь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краина 610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n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@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ver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kharkov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nb copy"/>
          <p:cNvPicPr/>
          <p:nvPr/>
        </p:nvPicPr>
        <p:blipFill>
          <a:blip r:embed="rId9"/>
          <a:stretch/>
        </p:blipFill>
        <p:spPr>
          <a:xfrm>
            <a:off x="324000" y="2708280"/>
            <a:ext cx="2746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2626560" y="5157720"/>
            <a:ext cx="1368360" cy="432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земельн*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ая аренда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ая реформа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ое право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ые отношения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ые ресурсы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ые фонды </a:t>
            </a:r>
            <a:r>
              <a:rPr b="0" i="1" lang="ru-RU" sz="2800" spc="-1" strike="noStrike">
                <a:solidFill>
                  <a:srgbClr val="003399"/>
                </a:solidFill>
                <a:latin typeface="Arial"/>
              </a:rPr>
              <a:t>Смотри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земельные ресурсы земельный налог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ый ры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военн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политическ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социальн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экономическ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 этническ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бухгалтерский учет в отдельных отраслях  -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есторанный бизнес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ачество продукции и услуг - в отдельных отраслях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есторанный бизнес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ресторанный бизнес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(3)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   - в отдельных странах (4)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   - справочные издания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   - учебные издания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управление персоналом - в отдельных отраслях -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есторанный бизнес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франчайзинг - в отдельных отраслях -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есторанный бизн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промышленные предприятия</a:t>
            </a: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- налогообложение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3399"/>
                </a:solidFill>
                <a:latin typeface="Arial"/>
              </a:rPr>
              <a:t>Смотри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налогообложение предприятий</a:t>
            </a: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- отдельные отрасли</a:t>
            </a: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            - промышлен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финансовая санация </a:t>
            </a:r>
            <a:br>
              <a:rPr sz="4400"/>
            </a:br>
            <a:br>
              <a:rPr sz="4400"/>
            </a:br>
            <a:r>
              <a:rPr b="0" i="1" lang="en-US" sz="3600" spc="-1" strike="noStrike">
                <a:solidFill>
                  <a:srgbClr val="003399"/>
                </a:solidFill>
                <a:latin typeface="Arial"/>
              </a:rPr>
              <a:t>Смотри также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банкротств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758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ериоды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113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древний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66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X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. – 1861 г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560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Киевская Русь  (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X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XII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в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284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галицкий период (1087-1340 г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39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литовский период (1340-1501 г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21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польский период (1501-1647 г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53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Украинское казаческое государство (1647 – 1764 г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60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       Освободительная война (1648-1654 гг.)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52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       1654-1657 гг.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4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        Руина (1657-1667 гг.)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1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        Гетманщина (вт.пол. 1660-х – 1764 гг.)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54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т.пол.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XVIII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. – 1861 г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30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1861 -1917 гг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45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1917-1991 гг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383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Украинское независимое государство (с 1991 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2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фондовый рынок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(8)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инфраструктура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мировой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отдельных стран (5)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Великобритания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Германия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Российская Федерация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Украина  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США 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-  периодические издания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прогнозирование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справочные издания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учебные издания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экономико-математическое модел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41:54Z</dcterms:created>
  <dc:creator>Ira</dc:creator>
  <dc:description/>
  <dc:language>en-US</dc:language>
  <cp:lastModifiedBy>Ira</cp:lastModifiedBy>
  <dcterms:modified xsi:type="dcterms:W3CDTF">2010-10-19T19:48:34Z</dcterms:modified>
  <cp:revision>15</cp:revision>
  <dc:subject/>
  <dc:title>ЧИТАТЕЛЬ И ПОИСКОВАЯ НАВИГАЦИЯ ЭЛЕКТРОННОГО КАТАЛОГА БИБЛИОТЕКИ</dc:title>
</cp:coreProperties>
</file>