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888-3A80-433E-BCD3-707731B9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4FB-BC6B-479B-A420-7A9A932C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3DF-FEF7-4C3B-846B-DC507E7C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BB3-A425-40C4-9CE6-7B27248B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B44-60FC-4A71-82DE-0FF8BD09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63C-511A-44E5-8B3A-4CB2ED29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479-5DA0-4931-A601-63116278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6CD-177F-4B5F-B622-D48753EC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C24-EC12-4AF3-A8E1-5891AA8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C60-A30F-4168-8592-13980A6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66E-ADFD-46E1-BB03-83223DA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CDA-F9E8-4C93-A304-5CEC9AB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679A-F909-49F7-991E-02A875D9B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nb@univer.kharkov.ua" TargetMode="External"/><Relationship Id="rId3" Type="http://schemas.openxmlformats.org/officeDocument/2006/relationships/hyperlink" Target="mailto:cnb@univer.kharkov.ua" TargetMode="External"/><Relationship Id="rId4" Type="http://schemas.openxmlformats.org/officeDocument/2006/relationships/hyperlink" Target="mailto:cnb@univer.kharkov.ua" TargetMode="External"/><Relationship Id="rId5" Type="http://schemas.openxmlformats.org/officeDocument/2006/relationships/hyperlink" Target="mailto:cnb@univer.kharkov.ua" TargetMode="External"/><Relationship Id="rId6" Type="http://schemas.openxmlformats.org/officeDocument/2006/relationships/hyperlink" Target="mailto:cnb@univer.kharkov.ua" TargetMode="External"/><Relationship Id="rId7" Type="http://schemas.openxmlformats.org/officeDocument/2006/relationships/hyperlink" Target="mailto:cnb@univer.kharkov.ua" TargetMode="External"/><Relationship Id="rId8" Type="http://schemas.openxmlformats.org/officeDocument/2006/relationships/hyperlink" Target="mailto:cnb@univer.kharkov.ua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ЧИТАТЕЛЬ И ПОИСКОВАЯ НАВИГАЦИЯ ЭЛЕКТРОННОГО КАТАЛОГА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Бондаренко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гл. библиоте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99080" y="2021040"/>
            <a:ext cx="39369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У264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241)</a:t>
            </a:r>
            <a:br>
              <a:rPr sz="4000"/>
            </a:b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ф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ндовый рынок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(77)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акции, векселя, облигации, опционы, рынок ценных бумаг, свопы, финансовые деривативы, фондовые биржи, фондовые операции, фьюче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2000" y="189000"/>
            <a:ext cx="310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У26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67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в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р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У26я7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77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У26я7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5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1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63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2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92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3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346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4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4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У268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38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3640" y="2924280"/>
            <a:ext cx="526716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нтральная научная 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Харьковский национальный университет им. В.Н. Кара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л. Свободы, 4, г. Харь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краина 610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n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v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harkov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nb copy"/>
          <p:cNvPicPr/>
          <p:nvPr/>
        </p:nvPicPr>
        <p:blipFill>
          <a:blip r:embed="rId9"/>
          <a:stretch/>
        </p:blipFill>
        <p:spPr>
          <a:xfrm>
            <a:off x="324000" y="2708280"/>
            <a:ext cx="2746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2626560" y="5157720"/>
            <a:ext cx="1368360" cy="432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земельн*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аренд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ая реформа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ое право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отношения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ресурсы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е фонды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мотр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земельные ресурсы земельный налог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емельны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воен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полит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циальн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эконом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 этническая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хгалтерский учет в отдельных отраслях 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чество продукции и услуг - в отдельных отраслях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есторанный бизнес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(3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в отдельных странах (4)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справочные издания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- учебные изда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правление персоналом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франчайзинг - в отдельных отраслях -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сторанный 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промышленные предприятия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налогообложение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налогообложение предприятий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- отдельные отрасли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           - промышл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финансовая санация </a:t>
            </a: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Смотри также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банкрот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тория Украин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758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ериоды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13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ревний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66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6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Киевская Русь  (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в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84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галицкий период (1087-1340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9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литовский период (1340-1501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21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польский период (1501-1647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 Украинское казаческое государство (1647 – 1764 г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60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Освободительная война (1648-165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2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1654-1657 гг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Руина (1657-1667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1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        Гетманщина (вт.пол. 1660-х – 1764 гг.)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54]</a:t>
            </a:r>
            <a:br>
              <a:rPr sz="2000"/>
            </a:b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т.пол.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. – 1861 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0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861 -1917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45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1917-1991 гг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383]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Украинское независимое государство (с 1991 г.)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[12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ндовый рынок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(8)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инфраструктура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мировой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отдельных стран (5)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Великобрит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Герман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Российская Федерация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Украина 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-  США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-  периодически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прогнозирование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справоч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учебные издания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-  экономико-математическ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41:54Z</dcterms:created>
  <dc:creator>Ira</dc:creator>
  <dc:description/>
  <dc:language>en-US</dc:language>
  <cp:lastModifiedBy>Ira</cp:lastModifiedBy>
  <dcterms:modified xsi:type="dcterms:W3CDTF">2010-10-19T19:48:34Z</dcterms:modified>
  <cp:revision>15</cp:revision>
  <dc:subject/>
  <dc:title>ЧИТАТЕЛЬ И ПОИСКОВАЯ НАВИГАЦИЯ ЭЛЕКТРОННОГО КАТАЛОГА БИБЛИОТЕКИ</dc:title>
</cp:coreProperties>
</file>