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F39-7585-44E7-9555-6E9B913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7F7-E827-47D6-A743-5C032F45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F04-7508-4265-A39E-97C5C69E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82B-65B1-4E13-929F-08B45C3E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2FC-EAC6-4390-A51C-0D91BE5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8DB-DA3F-4E78-8DFA-5A326D5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050-83D3-4108-9442-05DC2D87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E93-5640-409D-97DC-203EB8EB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EA3-C60C-4865-AF44-78F5DFEC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59D-C09A-4E38-8ECA-36E3A6B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9BD-EF17-41EE-A846-49B21BC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3DE-C065-4994-B91D-ED373CC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A17-CB04-4BCF-89AF-8CD3DCFF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nb@univer.kharkov.ua" TargetMode="External"/><Relationship Id="rId3" Type="http://schemas.openxmlformats.org/officeDocument/2006/relationships/hyperlink" Target="mailto:cnb@univer.kharkov.ua" TargetMode="External"/><Relationship Id="rId4" Type="http://schemas.openxmlformats.org/officeDocument/2006/relationships/hyperlink" Target="mailto:cnb@univer.kharkov.ua" TargetMode="External"/><Relationship Id="rId5" Type="http://schemas.openxmlformats.org/officeDocument/2006/relationships/hyperlink" Target="mailto:cnb@univer.kharkov.ua" TargetMode="External"/><Relationship Id="rId6" Type="http://schemas.openxmlformats.org/officeDocument/2006/relationships/hyperlink" Target="mailto:cnb@univer.kharkov.ua" TargetMode="External"/><Relationship Id="rId7" Type="http://schemas.openxmlformats.org/officeDocument/2006/relationships/hyperlink" Target="mailto:cnb@univer.kharkov.ua" TargetMode="External"/><Relationship Id="rId8" Type="http://schemas.openxmlformats.org/officeDocument/2006/relationships/hyperlink" Target="mailto:cnb@univer.kharkov.ua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ЧИТАТЕЛЬ И ПОИСКОВАЯ НАВИГАЦИЯ ЭЛЕКТРОННОГО КАТАЛОГА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Бондар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гл. библиоте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99080" y="2021040"/>
            <a:ext cx="39369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У264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241)</a:t>
            </a:r>
            <a:br>
              <a:rPr sz="40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ф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ндовый рынок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77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акции, векселя, облигации, опционы, рынок ценных бумаг, свопы, финансовые деривативы, фондовые биржи, фондовые операции, фьюче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310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26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67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в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р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7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77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У26я7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5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63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92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46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4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8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3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3640" y="2924280"/>
            <a:ext cx="5267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. Свободы, 4, г. Харь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раина 610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n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v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harko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nb copy"/>
          <p:cNvPicPr/>
          <p:nvPr/>
        </p:nvPicPr>
        <p:blipFill>
          <a:blip r:embed="rId9"/>
          <a:stretch/>
        </p:blipFill>
        <p:spPr>
          <a:xfrm>
            <a:off x="324000" y="27082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626560" y="5157720"/>
            <a:ext cx="1368360" cy="432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емельн*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аренд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реформ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ое право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отношения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ресурсы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фонды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мотр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земельные ресурсы земельный налог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воен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лит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циаль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эконом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этн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хгалтерский учет в отдельных отраслях 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чество продукции и услуг - в отдельных отраслях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сторанный бизнес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(3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в отдельных странах (4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справочные издания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учебные изда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правление персоналом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франчайзинг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ромышленные предприятия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налогообложение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налогообложение предприятий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отдельные отрасли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           - промышл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финансовая санация 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 также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банкро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758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ериоды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13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ревний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66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6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Киевская Русь  (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в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84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галицкий период (1087-1340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9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литовский период (1340-1501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1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польский период (1501-1647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Украинское казаческое государство (1647 – 1764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60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Освободительная война (1648-165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2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1654-1657 гг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Руина (1657-1667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Гетманщина (вт.пол. 1660-х – 176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т.пол.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861 -1917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5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917-1991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8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Украинское независимое государство (с 1991 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2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ндовый рынок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8)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инфраструктура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мировой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отдельных стран (5)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Великобрит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Герм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Российская Федерац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Украина 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США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  периодически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прогнозирование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справоч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учеб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экономико-математическ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41:54Z</dcterms:created>
  <dc:creator>Ira</dc:creator>
  <dc:description/>
  <dc:language>en-US</dc:language>
  <cp:lastModifiedBy>Ira</cp:lastModifiedBy>
  <dcterms:modified xsi:type="dcterms:W3CDTF">2010-10-19T19:48:34Z</dcterms:modified>
  <cp:revision>15</cp:revision>
  <dc:subject/>
  <dc:title>ЧИТАТЕЛЬ И ПОИСКОВАЯ НАВИГАЦИЯ ЭЛЕКТРОННОГО КАТАЛОГА БИБЛИОТЕКИ</dc:title>
</cp:coreProperties>
</file>