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35E-9BF1-4E61-80F2-0972FC8F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9E4-6787-4D5E-B63D-E71A71A2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E5B-4397-43DE-96E1-155A7E46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249-1F2C-4BAF-8EE8-F000107B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818-7DDB-4761-9266-77F5EE82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81C-C6AF-4053-842D-53276D9B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396-A0C6-4374-AFB3-ABB8EE94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2DA-B3B9-41F7-A83F-3585FBDA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F5D-D155-4EEE-9133-B4E5CCE4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D21-B90C-4492-8512-C84F86FC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5EA-5E14-4AF8-8AFE-7B0DDBA6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EF7-3113-4ACE-8282-FE4F30FE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1CBF-A3B0-40E4-AA7D-C17600561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nb@univer.kharkov.ua" TargetMode="External"/><Relationship Id="rId3" Type="http://schemas.openxmlformats.org/officeDocument/2006/relationships/hyperlink" Target="mailto:cnb@univer.kharkov.ua" TargetMode="External"/><Relationship Id="rId4" Type="http://schemas.openxmlformats.org/officeDocument/2006/relationships/hyperlink" Target="mailto:cnb@univer.kharkov.ua" TargetMode="External"/><Relationship Id="rId5" Type="http://schemas.openxmlformats.org/officeDocument/2006/relationships/hyperlink" Target="mailto:cnb@univer.kharkov.ua" TargetMode="External"/><Relationship Id="rId6" Type="http://schemas.openxmlformats.org/officeDocument/2006/relationships/hyperlink" Target="mailto:cnb@univer.kharkov.ua" TargetMode="External"/><Relationship Id="rId7" Type="http://schemas.openxmlformats.org/officeDocument/2006/relationships/hyperlink" Target="mailto:cnb@univer.kharkov.ua" TargetMode="External"/><Relationship Id="rId8" Type="http://schemas.openxmlformats.org/officeDocument/2006/relationships/hyperlink" Target="mailto:cnb@univer.kharkov.ua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Харьковский национальный университет им. В.Н. Каразина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Центральная научная библио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ЧИТАТЕЛЬ И ПОИСКОВАЯ НАВИГАЦИЯ ЭЛЕКТРОННОГО КАТАЛОГА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Бондаренко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гл. библиотек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99080" y="2021040"/>
            <a:ext cx="39369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У264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(241)</a:t>
            </a:r>
            <a:br>
              <a:rPr sz="4000"/>
            </a:b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ф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ндовый рынок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(77)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663300"/>
                </a:solidFill>
                <a:latin typeface="Arial"/>
              </a:rPr>
              <a:t>акции, векселя, облигации, опционы, рынок ценных бумаг, свопы, финансовые деривативы, фондовые биржи, фондовые операции, фьючер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2000" y="189000"/>
            <a:ext cx="310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У26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672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в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р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1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2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3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4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7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77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У26я73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5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1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63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2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92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3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346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4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4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8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3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63640" y="2924280"/>
            <a:ext cx="526716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нтральная научная 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Харьковский национальный университет им. В.Н. Кара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л. Свободы, 4, г. Харь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краина 610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n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v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kharkov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nb copy"/>
          <p:cNvPicPr/>
          <p:nvPr/>
        </p:nvPicPr>
        <p:blipFill>
          <a:blip r:embed="rId9"/>
          <a:stretch/>
        </p:blipFill>
        <p:spPr>
          <a:xfrm>
            <a:off x="324000" y="27082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2626560" y="5157720"/>
            <a:ext cx="1368360" cy="432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земельн*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ая аренда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ая реформа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ое право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отношения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ресурсы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фонды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Смотр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земельные ресурсы земельный налог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й р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военн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полит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циальн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эконом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этн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хгалтерский учет в отдельных отраслях 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чество продукции и услуг - в отдельных отраслях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есторанный бизнес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(3)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в отдельных странах (4)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справочные издания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учебные изда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управление персоналом - в отдельных отраслях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франчайзинг - в отдельных отраслях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промышленные предприятия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- налогообложение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Смотри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налогообложение предприятий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- отдельные отрасли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           - промышлен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финансовая санация </a:t>
            </a:r>
            <a:br>
              <a:rPr sz="4400"/>
            </a:br>
            <a:br>
              <a:rPr sz="4400"/>
            </a:b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Смотри также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банкрот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758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ериоды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113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ревний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66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. – 1861 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60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Киевская Русь  (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в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284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галицкий период (1087-1340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9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литовский период (1340-1501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21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польский период (1501-1647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3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Украинское казаческое государство (1647 – 1764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60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Освободительная война (1648-1654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2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1654-1657 гг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4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 Руина (1657-1667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1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 Гетманщина (вт.пол. 1660-х – 1764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4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т.пол.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XVIII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. – 1861 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0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1861 -1917 г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45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1917-1991 г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83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Украинское независимое государство (с 1991 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2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фондовый рынок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(8)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инфраструктура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мировой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отдельных стран (5)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Великобритан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Герман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Российская Федерац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Украина 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США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-  периодически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прогнозирование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справочны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учебны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экономико-математическое моде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41:54Z</dcterms:created>
  <dc:creator>Ira</dc:creator>
  <dc:description/>
  <dc:language>en-US</dc:language>
  <cp:lastModifiedBy>Ira</cp:lastModifiedBy>
  <dcterms:modified xsi:type="dcterms:W3CDTF">2010-10-19T19:48:34Z</dcterms:modified>
  <cp:revision>15</cp:revision>
  <dc:subject/>
  <dc:title>ЧИТАТЕЛЬ И ПОИСКОВАЯ НАВИГАЦИЯ ЭЛЕКТРОННОГО КАТАЛОГА БИБЛИОТЕКИ</dc:title>
</cp:coreProperties>
</file>