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BF64-B7F4-40D0-A08B-F38A460D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62AF-3846-4AA5-BBA2-1D14D2F0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55B1-74C3-4197-A87B-2926411B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8380-86A6-407B-9815-DED50196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6C3F-58D0-41C0-A11D-4F5799C6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B232-CC1F-4525-957E-DFE921A3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AE8E-7B73-4DCC-A87A-5E8FD3FB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459E-DAFE-4C88-B028-72F77C75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4172-F071-41C2-83DD-431F9C73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C73D-F882-4383-9208-EC44066D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3BA6-61F2-4867-9067-DF4FA1F8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D161-EEF4-49EA-8716-9FA69684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5917-B8A5-4E7D-998D-1C55ADB0B1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21430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uk-UA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уціанство</a:t>
            </a:r>
            <a:br>
              <a:rPr sz="8800"/>
            </a:br>
            <a:br>
              <a:rPr sz="8800"/>
            </a:br>
            <a:br>
              <a:rPr sz="88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214200" y="223560"/>
            <a:ext cx="892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фуціанство - давньокитайська філософська школа, а пізніше найвпливовіша разом з даосизмом і буддизмом релігійно-філософська школа Кита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214200" y="285768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нував її відомий вчений і філософ, релігійний реформатор Конфуцій (Кун-цзи, Кун-цю, Кун-Фу-цзи, Кунг-ксю, ще одне ім'я - Чхун-Ні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G:\Сокральна географыя\Konfuzius-1770.jpg"/>
          <p:cNvPicPr/>
          <p:nvPr/>
        </p:nvPicPr>
        <p:blipFill>
          <a:blip r:embed="rId1"/>
          <a:stretch/>
        </p:blipFill>
        <p:spPr>
          <a:xfrm>
            <a:off x="4643280" y="214200"/>
            <a:ext cx="4357800" cy="6147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142920" y="0"/>
            <a:ext cx="4214880" cy="67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уцій народився 551 року до н.е. в аристократичній але збіднілій сім'ї в королівстві Лу (східний Китай, сучасна провінція Шан- дунь). Він був високоосвіченою людиною, "ши" (китайський синонім інтелігента), знавцем музики (за китайським уявленням музика відбивала всесвітню гармонію і сприяла її відтворенню в суспільстві) та давніх ритуалів. Спочатку перебував на державній службі, але покинув її і став навчати. Через деякий час його знову покликали на державну службу, де він дослужився до міністра юстиції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214200" y="231480"/>
            <a:ext cx="8715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снові вчення Конфуція лежить культ предків, який такий ж давній як і сама китайська цивілізація. Після смерті предки сприймались як духи, - а точніше - як зв'язуюча ланка між духами і людьми. Вони ж захищали від злих духів. Кожна сім'я, рід мали свій храм, в якому поклонялися духам предків. Спочатку в храмах знаходились ляльки з тканини чи статуї померлих. Пізніше з'явились таблички (чжу), які символізували предків. Без поради з духами померлих предків не починалась жодна серйозна справа: не сіяли, не збирали врожай. Державного характеру набуло шанування предків імператор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214200" y="407196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уцій вважав, що потрібно вклонятись не стільки реальним і прямим предкам, наприклад, батькам, скільки першим мудрецям, засновникам Піднебесної, родоначальникам усього люд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0" y="315720"/>
            <a:ext cx="91440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фуцій розглядав Бога як Бога-Отця, а людей, як його дітей, які повинні любити Бога синівською любов'ю, а один одного як братів та сестер. "Вся піднебесна - одна сім'я", - казав він. Конфуцієм було розроблено "золоте правило" моральності, яке пізніше зустрінемо у Христа. В ньому говориться: "Роби завжди так, як хотів би, щоб робили з тобою. Не робі іншим те, чого не бажаєш собі"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ра в надприродне наявна в усіх міркуваннях Конфуція про природу, суспільство і людину. Його релігійно-філософська концепція має виразне соціальне спрямування, в основі її - відносини людини, держави і суспільства. Конфуцій визнавав сучасну йому суспільну структуру непорушною, існуючий суспільний лад - досконалим. На його думку людина має пізнати існуючий лад і суворо дотримуватись його порядків. Держава, яка забезпечує цей лад, - вища над усе, особа - ніщо перед державою. Це повинна підтверджувати і утримувати релігі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14200" y="620640"/>
            <a:ext cx="864396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китайській культурі існувало поняття "тварина в образі людини". Виявити людське в людині, знайти ту грань, що відокремлює людину від тварини, - ось чого прагнув Конфуцій. Людина для Конфуція - це завжди "людина культури". Якщо вона не гуманна, якщо нема в ній людинолюбства, то це не людина, це лише подоба її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У своєму вченні Конфуцій показував, що ідеал життя не в загробному світі, а в цьому, сьогоднішньому дні. В кожному вчинку є святість, в кожному нашому жесті, погляді є відлуння святого, і все це присутнє тут і зараз. І гармонійне життя може бути ідеалом кожної людини. Для цього потрібно просто виявити людське в людині, втілити земний ідеал, "посюсторонню" святість в самому собі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214200" y="227520"/>
            <a:ext cx="8715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уже важливим, за Конфуцієм, є вчення "про імена": будь тим хто ти є за своїм становищем у суспільстві: хлібороб має бути хліборобом, чиновник - чиновником, раб - рабом. Кожна соціальна група має сталі форми поведінки - лі, кожен повинен дотримуватися свого лі та поважати предків. Державу мають очолювати мудрі люди і особистим прикладом виховувати підлеглих. За потреби вони мусять "виправляти імена": ставити кожного на своє місце у суспільств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214200" y="328608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уцій не приховував соціальної спрямованості його поглядів. Він вчив, що відмінність між вельможним панством і простим народом не може бути стерто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214200" y="243720"/>
            <a:ext cx="8715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ою суспільних відносин вважав гуманність. Для впорядкованості суспільства, бездоганності дій держави потрібно послідовно впроваджувати принципи гуманності - жень. Конфуцій старанно аналізує їх сутність. Ц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сяо - повага до батьків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ті - повага до старших за віком і вищих за суспільн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новище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чхун - вірність, віддані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шу - прощенн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лі - доброчесні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чжі - знанн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7. юн - хоробрі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8. гун - шанобливі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9. куань - великодушні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0. сінь - вірні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1. мінь - кмітливі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2. чуй - добро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14200" y="14940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і моральні риси прикрасять людину. В них простежується принцип загальнолюдської моралі, що є вагомим доробком конфуціанства. Саме це забезпечило йому стабільний авторитет протягом двох з половиною тисяч рок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214200" y="178596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ігійно-філософське вчення Конфуція за двісті - триста років міцно вкоренилось у свідомість китайського суспіль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285840" y="2786040"/>
            <a:ext cx="8572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хоча його критикували законники, чи легісти, та все ж конфуціанська проповідь покори, суворого дотримання суспільної ієрархії, суспільного консерватизму забезпечувала йому авторитет серед правлячої верхівки. У ІІ столітті до н.е. конфуціанство зближується з легізмом. Далі воно набуває абсолютно чітких ідеологічних рас, які зробили його офіційної ідеологією феодального Кита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емец Людмила</cp:lastModifiedBy>
  <dcterms:modified xsi:type="dcterms:W3CDTF">2011-05-31T08:15:16Z</dcterms:modified>
  <cp:revision>6</cp:revision>
  <dc:subject/>
  <dc:title>       Конфуціанство        </dc:title>
</cp:coreProperties>
</file>