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F3F-CD8B-4D3A-80B4-0F2EC733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CFC-D951-4B3B-80A4-E495BCCA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FED-3D6D-4F24-A4CF-5B733C6B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DD1-1D0F-4AB0-A7D4-537A2468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264-4C07-4625-B693-CEA78FDB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3EB-8B43-4F78-A48B-D34C1332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A2A-DFF7-4B13-967F-7DBD611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269-B111-4405-8C94-1B34F4E1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536-3472-4722-A4BE-66EB7719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C83-F541-4EE9-B8D3-D44F3D0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06A-62F7-4FFD-91F3-266E82F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594-F883-4001-A9A3-B3D605F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413-8541-4564-9F96-E36D06178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uk-UA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анство</a:t>
            </a:r>
            <a:br>
              <a:rPr sz="8800"/>
            </a:br>
            <a:br>
              <a:rPr sz="8800"/>
            </a:br>
            <a:br>
              <a:rPr sz="8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14200" y="223560"/>
            <a:ext cx="892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анство - давньокитайська філософська школа, а пізніше найвпливовіша разом з даосизмом і буддизмом релігійно-філософська школа Кита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28576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вав її відомий вчений і філософ, релігійний реформатор Конфуцій (Кун-цзи, Кун-цю, Кун-Фу-цзи, Кунг-ксю, ще одне ім'я - Чхун-Ні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Сокральна географыя\Konfuzius-1770.jpg"/>
          <p:cNvPicPr/>
          <p:nvPr/>
        </p:nvPicPr>
        <p:blipFill>
          <a:blip r:embed="rId1"/>
          <a:stretch/>
        </p:blipFill>
        <p:spPr>
          <a:xfrm>
            <a:off x="4643280" y="214200"/>
            <a:ext cx="4357800" cy="6147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42920" y="0"/>
            <a:ext cx="42148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ародився 551 року до н.е. в аристократичній але збіднілій сім'ї в королівстві Лу (східний Китай, сучасна провінція Шан- дунь). Він був високоосвіченою людиною, "ши" (китайський синонім інтелігента), знавцем музики (за китайським уявленням музика відбивала всесвітню гармонію і сприяла її відтворенню в суспільстві) та давніх ритуалів. Спочатку перебував на державній службі, але покинув її і став навчати. Через деякий час його знову покликали на державну службу, де він дослужився до міністра юстиції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14200" y="231480"/>
            <a:ext cx="871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вчення Конфуція лежить культ предків, який такий ж давній як і сама китайська цивілізація. Після смерті предки сприймались як духи, - а точніше - як зв'язуюча ланка між духами і людьми. Вони ж захищали від злих духів. Кожна сім'я, рід мали свій храм, в якому поклонялися духам предків. Спочатку в храмах знаходились ляльки з тканини чи статуї померлих. Пізніше з'явились таблички (чжу), які символізували предків. Без поради з духами померлих предків не починалась жодна серйозна справа: не сіяли, не збирали врожай. Державного характеру набуло шанування предків імпера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14200" y="40719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вважав, що потрібно вклонятись не стільки реальним і прямим предкам, наприклад, батькам, скільки першим мудрецям, засновникам Піднебесної, родоначальникам усього лю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31572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уцій розглядав Бога як Бога-Отця, а людей, як його дітей, які повинні любити Бога синівською любов'ю, а один одного як братів та сестер. "Вся піднебесна - одна сім'я", - казав він. Конфуцієм було розроблено "золоте правило" моральності, яке пізніше зустрінемо у Христа. В ньому говориться: "Роби завжди так, як хотів би, щоб робили з тобою. Не робі іншим те, чого не бажаєш собі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а в надприродне наявна в усіх міркуваннях Конфуція про природу, суспільство і людину. Його релігійно-філософська концепція має виразне соціальне спрямування, в основі її - відносини людини, держави і суспільства. Конфуцій визнавав сучасну йому суспільну структуру непорушною, існуючий суспільний лад - досконалим. На його думку людина має пізнати існуючий лад і суворо дотримуватись його порядків. Держава, яка забезпечує цей лад, - вища над усе, особа - ніщо перед державою. Це повинна підтверджувати і утримувати релігі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620640"/>
            <a:ext cx="86439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итайській культурі існувало поняття "тварина в образі людини". Виявити людське в людині, знайти ту грань, що відокремлює людину від тварини, - ось чого прагнув Конфуцій. Людина для Конфуція - це завжди "людина культури". Якщо вона не гуманна, якщо нема в ній людинолюбства, то це не людина, це лише подоба її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воєму вченні Конфуцій показував, що ідеал життя не в загробному світі, а в цьому, сьогоднішньому дні. В кожному вчинку є святість, в кожному нашому жесті, погляді є відлуння святого, і все це присутнє тут і зараз. І гармонійне життя може бути ідеалом кожної людини. Для цього потрібно просто виявити людське в людині, втілити земний ідеал, "посюсторонню" святість в самому соб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14200" y="22752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же важливим, за Конфуцієм, є вчення "про імена": будь тим хто ти є за своїм становищем у суспільстві: хлібороб має бути хліборобом, чиновник - чиновником, раб - рабом. Кожна соціальна група має сталі форми поведінки - лі, кожен повинен дотримуватися свого лі та поважати предків. Державу мають очолювати мудрі люди і особистим прикладом виховувати підлеглих. За потреби вони мусять "виправляти імена": ставити кожного на своє місце у суспільств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214200" y="3286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ій не приховував соціальної спрямованості його поглядів. Він вчив, що відмінність між вельможним панством і простим народом не може бути стер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24372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ою суспільних відносин вважав гуманність. Для впорядкованості суспільства, бездоганності дій держави потрібно послідовно впроваджувати принципи гуманності - жень. Конфуцій старанно аналізує їх сутність. Ц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яо - повага до батьк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ті - повага до старших за віком і вищих за суспіль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овищ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хун - вірність, відда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шу - проще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лі - доброчес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жі - зн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юн - хоробр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ун - шаноб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куань - великодуш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сінь - вірн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мінь - кмітливі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чуй - добро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1494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 моральні риси прикрасять людину. В них простежується принцип загальнолюдської моралі, що є вагомим доробком конфуціанства. Саме це забезпечило йому стабільний авторитет протягом двох з половиною тисяч ро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14200" y="1785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ігійно-філософське вчення Конфуція за двісті - триста років міцно вкоренилось у свідомість китайського суспі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78604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хоча його критикували законники, чи легісти, та все ж конфуціанська проповідь покори, суворого дотримання суспільної ієрархії, суспільного консерватизму забезпечувала йому авторитет серед правлячої верхівки. У ІІ столітті до н.е. конфуціанство зближується з легізмом. Далі воно набуває абсолютно чітких ідеологічних рас, які зробили його офіційної ідеологією феодального Кит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1T08:15:16Z</dcterms:modified>
  <cp:revision>6</cp:revision>
  <dc:subject/>
  <dc:title>       Конфуціанство        </dc:title>
</cp:coreProperties>
</file>