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1E4-E545-4955-9859-A632F7C6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4DE-B1A8-4AC7-83F1-246D2962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880-54EB-4CCB-8E3C-15A46979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B68-A701-44B3-9661-8667A03A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4573-011F-4543-9AA4-2B4FEA40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79F-60DC-4644-B785-48A0D0A9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384D-CC74-4FBB-9C50-5413B179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1570-33C1-46BD-9DAB-365CFE71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AB4-6B3C-434D-B602-782C9733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10A4-5329-496B-9821-7E1E8B9E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A72-7E07-4B9E-A003-37DF2C62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861-403E-4A7C-B810-789E392A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5169-288B-47E8-8D0F-874AF1CF53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uk-UA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іанство</a:t>
            </a:r>
            <a:br>
              <a:rPr sz="8800"/>
            </a:br>
            <a:br>
              <a:rPr sz="8800"/>
            </a:br>
            <a:br>
              <a:rPr sz="88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214200" y="223560"/>
            <a:ext cx="892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фуціанство - давньокитайська філософська школа, а пізніше найвпливовіша разом з даосизмом і буддизмом релігійно-філософська школа Кита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214200" y="28576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нував її відомий вчений і філософ, релігійний реформатор Конфуцій (Кун-цзи, Кун-цю, Кун-Фу-цзи, Кунг-ксю, ще одне ім'я - Чхун-Ні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:\Сокральна географыя\Konfuzius-1770.jpg"/>
          <p:cNvPicPr/>
          <p:nvPr/>
        </p:nvPicPr>
        <p:blipFill>
          <a:blip r:embed="rId1"/>
          <a:stretch/>
        </p:blipFill>
        <p:spPr>
          <a:xfrm>
            <a:off x="4643280" y="214200"/>
            <a:ext cx="4357800" cy="6147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142920" y="0"/>
            <a:ext cx="4214880" cy="67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ій народився 551 року до н.е. в аристократичній але збіднілій сім'ї в королівстві Лу (східний Китай, сучасна провінція Шан- дунь). Він був високоосвіченою людиною, "ши" (китайський синонім інтелігента), знавцем музики (за китайським уявленням музика відбивала всесвітню гармонію і сприяла її відтворенню в суспільстві) та давніх ритуалів. Спочатку перебував на державній службі, але покинув її і став навчати. Через деякий час його знову покликали на державну службу, де він дослужився до міністра юстиції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14200" y="231480"/>
            <a:ext cx="8715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снові вчення Конфуція лежить культ предків, який такий ж давній як і сама китайська цивілізація. Після смерті предки сприймались як духи, - а точніше - як зв'язуюча ланка між духами і людьми. Вони ж захищали від злих духів. Кожна сім'я, рід мали свій храм, в якому поклонялися духам предків. Спочатку в храмах знаходились ляльки з тканини чи статуї померлих. Пізніше з'явились таблички (чжу), які символізували предків. Без поради з духами померлих предків не починалась жодна серйозна справа: не сіяли, не збирали врожай. Державного характеру набуло шанування предків імператор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214200" y="407196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ій вважав, що потрібно вклонятись не стільки реальним і прямим предкам, наприклад, батькам, скільки першим мудрецям, засновникам Піднебесної, родоначальникам усього люд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315720"/>
            <a:ext cx="91440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фуцій розглядав Бога як Бога-Отця, а людей, як його дітей, які повинні любити Бога синівською любов'ю, а один одного як братів та сестер. "Вся піднебесна - одна сім'я", - казав він. Конфуцієм було розроблено "золоте правило" моральності, яке пізніше зустрінемо у Христа. В ньому говориться: "Роби завжди так, як хотів би, щоб робили з тобою. Не робі іншим те, чого не бажаєш собі"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ра в надприродне наявна в усіх міркуваннях Конфуція про природу, суспільство і людину. Його релігійно-філософська концепція має виразне соціальне спрямування, в основі її - відносини людини, держави і суспільства. Конфуцій визнавав сучасну йому суспільну структуру непорушною, існуючий суспільний лад - досконалим. На його думку людина має пізнати існуючий лад і суворо дотримуватись його порядків. Держава, яка забезпечує цей лад, - вища над усе, особа - ніщо перед державою. Це повинна підтверджувати і утримувати релігі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14200" y="620640"/>
            <a:ext cx="864396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китайській культурі існувало поняття "тварина в образі людини". Виявити людське в людині, знайти ту грань, що відокремлює людину від тварини, - ось чого прагнув Конфуцій. Людина для Конфуція - це завжди "людина культури". Якщо вона не гуманна, якщо нема в ній людинолюбства, то це не людина, це лише подоба її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У своєму вченні Конфуцій показував, що ідеал життя не в загробному світі, а в цьому, сьогоднішньому дні. В кожному вчинку є святість, в кожному нашому жесті, погляді є відлуння святого, і все це присутнє тут і зараз. І гармонійне життя може бути ідеалом кожної людини. Для цього потрібно просто виявити людське в людині, втілити земний ідеал, "посюсторонню" святість в самому собі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214200" y="227520"/>
            <a:ext cx="87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уже важливим, за Конфуцієм, є вчення "про імена": будь тим хто ти є за своїм становищем у суспільстві: хлібороб має бути хліборобом, чиновник - чиновником, раб - рабом. Кожна соціальна група має сталі форми поведінки - лі, кожен повинен дотримуватися свого лі та поважати предків. Державу мають очолювати мудрі люди і особистим прикладом виховувати підлеглих. За потреби вони мусять "виправляти імена": ставити кожного на своє місце у суспільств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214200" y="328608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ій не приховував соціальної спрямованості його поглядів. Він вчив, що відмінність між вельможним панством і простим народом не може бути стерто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14200" y="243720"/>
            <a:ext cx="8715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ою суспільних відносин вважав гуманність. Для впорядкованості суспільства, бездоганності дій держави потрібно послідовно впроваджувати принципи гуманності - жень. Конфуцій старанно аналізує їх сутність. Ц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сяо - повага до батьків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ті - повага до старших за віком і вищих за суспільн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новище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чхун - вірність, віддан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шу - прощенн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лі - доброчесн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чжі - знанн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. юн - хоробр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гун - шаноблив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9. куань - великодушн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0. сінь - вірн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1. мінь - кмітлив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2. чуй - добро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14200" y="14940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і моральні риси прикрасять людину. В них простежується принцип загальнолюдської моралі, що є вагомим доробком конфуціанства. Саме це забезпечило йому стабільний авторитет протягом двох з половиною тисяч рок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214200" y="178596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ігійно-філософське вчення Конфуція за двісті - триста років міцно вкоренилось у свідомість китайського суспіль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285840" y="2786040"/>
            <a:ext cx="857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хоча його критикували законники, чи легісти, та все ж конфуціанська проповідь покори, суворого дотримання суспільної ієрархії, суспільного консерватизму забезпечувала йому авторитет серед правлячої верхівки. У ІІ столітті до н.е. конфуціанство зближується з легізмом. Далі воно набуває абсолютно чітких ідеологічних рас, які зробили його офіційної ідеологією феодального Кита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емец Людмила</cp:lastModifiedBy>
  <dcterms:modified xsi:type="dcterms:W3CDTF">2011-05-31T08:15:16Z</dcterms:modified>
  <cp:revision>6</cp:revision>
  <dc:subject/>
  <dc:title>       Конфуціанство        </dc:title>
</cp:coreProperties>
</file>