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4BD4-7F97-4B99-853D-6B97CDC75B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FC38-B648-4E6F-A95B-A2102230B5D2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993-C2C1-467C-9745-71B588407E53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C51C-563F-4DCA-A775-DD3318E7A12D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2BA3-62F7-4275-BC58-A277FA4A26FC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463-137B-404F-ADB8-5CC6FB6F223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E1BE-BD62-49C5-91B1-74ADB5C83283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1491-38E0-4833-A871-F1D32665DE2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6D77-7FAF-49AB-A329-6F0758F52D0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3AF-01B1-4248-8A04-2AD1CE911C3C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87D-9817-4C6C-8B4B-F81503F0DAB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4CA-A08E-43C5-8027-3631AD0CFD4B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CEE-7A5E-454E-8A02-AB931B69EC20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634-DFE3-4CF3-809F-E57193EECB46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10D5-8FC3-49C2-B031-887363B84015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A3A-BCE8-4339-967F-A444D64C17D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858-80B8-45D7-A16A-17245631BFEC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B2BF-BA26-491D-8327-B44F03523437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94B-673F-4AC2-89AE-1A804F27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DE7-1106-492E-8269-4088AEC9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22F-1C5B-4FEE-BD43-88B65D5C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967-62E7-46FC-B067-9FCA53D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B49E-ABA0-4D5F-97A2-58E6E31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B65-7F6E-407B-A13C-F6D66E5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045-9E2A-4B67-92C1-276D8FCE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9CA5-206C-4B7A-9263-3AFEED24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5D8-65AA-4481-B06A-73D2C474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356-47D5-4957-B5BD-E26E8BF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1211-A06A-4355-BEAC-5E8F612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0A3-C253-4EC0-95E4-9D3038E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D31-7320-4EB7-9A3E-B6ED69C4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C78-BD13-4CA7-907C-3592965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C86-9CF9-4905-9D5C-A9A7DED8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AF1B-9EEF-424B-8A06-C25D210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A90-2C39-4F40-931B-9C1AD37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B73-EF78-472F-B0F5-3625886B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BD0-72B1-4D11-A5B3-424D3226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CB5-AE48-45A5-ABA8-7959060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A2C-556D-45AE-96CD-98E4A74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629-DCBF-421E-831C-9A657B3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996-7466-4103-9549-952BD3B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367-2BA2-4090-88C6-EDE19E0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EE34-4F30-47C2-9135-9D68E9AE46F3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D92-FE50-442B-B8B5-46AB839EE5B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58F-CF90-4A61-90CA-9087C2A4E46E}" type="datetime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7729-B513-4BB2-8FFD-A98983CCEFC2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lib.amu.edu.pl/images/stories/galerie_zdjec/remont_czytelni/a0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lib.amu.edu.pl/images/stories/galerie_zdjec/remont_czytelni/a04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amu.edu.pl/images/stories/wystawy/tb2010/9d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lib.amu.edu.pl/images/stories/wystawy/tb2010/10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менения в вузовских библиотеках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Польше в течение последних 20 лет  общие проблем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ib.amu.edu.pl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3" descr="Bez nazwy 13 - kopia"/>
          <p:cNvPicPr/>
          <p:nvPr/>
        </p:nvPicPr>
        <p:blipFill>
          <a:blip r:embed="rId1"/>
          <a:stretch/>
        </p:blipFill>
        <p:spPr>
          <a:xfrm>
            <a:off x="1143000" y="5749920"/>
            <a:ext cx="1143000" cy="839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2463840" y="571500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ibliote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niwersyteck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 Pozna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914400" y="55627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7 г. существует Федерация электронных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библиотека решает следующи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аняет проблемы связанные с поиском материалов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щает, документы от испорчения (хрупкая, «кислая» бумага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егчает дидактический процесс (е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in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ает и ускоряет межбиблиотечный обмен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2D45-BE3B-4EA0-A4F0-749934C16A6E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27E2-1364-42A5-B5B1-E41A3A98478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уг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SimSun"/>
              </a:rPr>
              <a:t>Библиотеки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9720" y="15717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Раскрытие фондов библиотек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ьзователи мог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елать заказы через Интернет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ставить документ за собой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одлевать срок одолжения книг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получать мейлом заявления о приближающемся сроке сдач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кни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Организация доступа к электронным ресурсам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мировым баз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журнал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э-книг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Доступ к полным текстам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электронные библиотек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системы HAN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HIDDEN  AUTOMATIC  NAWVIGATOR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или On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Log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D30C-EE2D-418B-BFCD-DBC67F3A98A0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Межбиблиотечный обме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ение межбиблиотечного обмена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разнообразных библиотечных систем, которые не всегда оснащены модулью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 (interlibrary loan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уп в режим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нижает количеств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азов по межбиблиотечному обмену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ек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a”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-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40D-8428-48F9-9969-C3F88A7F8D30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ECF-4B4B-4236-8200-94959533239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Library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SimSun"/>
              </a:rPr>
              <a:t> 2.0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Интернет второй генерации —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We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2.0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едоставляет услуги по-другому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применяет новые, более интерактивные средства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обеспечает двусторонние контакты исотрудничество между пользователями и библиотекой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создание и оценку библиотечных усл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B47-560E-475F-83A0-17313D19DC18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3FA-C82D-4F42-BA45-E4C49AB27406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тоги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прыжок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чественный анализ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анализ библиотечных услуг сосредоточены н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нализах TQ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тратегических пл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дариз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вижение и предложение услу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8F99-D552-4500-91D2-C8C0F05C5700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8F88-18F3-423F-9116-63A25023229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090-8041-4347-8420-894B0D3348E9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A744-0C9F-41C2-A09F-64503EBCEEA2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http://lib.amu.edu.pl/images/stories/galerie_zdjec/remont_czytelni/01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lib.amu.edu.pl/images/stories/galerie_zdjec/remont_czytelni/07.jpg"/>
          <p:cNvPicPr/>
          <p:nvPr/>
        </p:nvPicPr>
        <p:blipFill>
          <a:blip r:embed="rId2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Odnowione zabytkowe czytel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357800"/>
            <a:ext cx="1238400" cy="185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Odnowione zabytkowe czytel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642960"/>
            <a:ext cx="1238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ymbol zastępczy daty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7EE-B899-4648-B9D3-01DA4CDF4E42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ymbol zastępczy stopki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0EAF-9D4F-4F17-AADF-82D957235063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0" descr="Tydzień Bibliotek 08-15 V 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4286160"/>
            <a:ext cx="123804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Tydzień Bibliotek 08-15 V 20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43120" y="4286160"/>
            <a:ext cx="1238400" cy="18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http://lib.amu.edu.pl/images/stories/galerie_zdjec/tb_2010_wieczor/3d.jpg"/>
          <p:cNvPicPr/>
          <p:nvPr/>
        </p:nvPicPr>
        <p:blipFill>
          <a:blip r:embed="rId5"/>
          <a:stretch/>
        </p:blipFill>
        <p:spPr>
          <a:xfrm>
            <a:off x="1785960" y="35712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б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 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ним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и</a:t>
            </a:r>
            <a:r>
              <a:rPr b="1" lang="pl-PL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800240" y="35809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ksandra Mikołaj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ena Olszew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Uniwersytec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. Ratajczaka 38/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-816 Pozn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SKA - PO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3510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 библиотеки печатных фондов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 библиотеке электронных ресурсов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Aleksandra Mikołaj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Monotype Corsiva"/>
              </a:rPr>
              <a:t>Helena Olszewsk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D7D6-9DA6-497E-B5B5-2360BED57795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CEDB-B7BB-4D66-87F0-595FFAF3F0E9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79F-E25B-47AC-B5C5-9F51C0BB76FE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упка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х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сте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од больших политических, экономических и общественных пере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сутствие управляющего центра и решительной общей государственной политики в сфере компьютеризации библиотек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нения, состоящие в компьютеризации всех библиотечно-информационных процессов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 </a:t>
            </a:r>
            <a:br>
              <a:rPr sz="2400"/>
            </a:b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ое строительство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440" y="16430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989 года начались тоже работы при постройке современных библиотечных зданий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указаний известного бритийского архитектора, строителя многих библиотечных зданий –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ry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kner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</a:t>
            </a: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е библиотеки должно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спосабливаемое «гибкое» (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) –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ирует на одной конструктивной модули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 компакт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act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удобная коммуникация: для читателей, библиотекарей и книг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 доступ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ccessible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свободный доступ для все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яемое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яжим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tendi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     неоднород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ried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возможность работы в разных условиях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ganised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б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fortabl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гарантирующее хорошие условия окружающей среды и микроклимат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stant in environment) -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ение фондов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e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   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ное </a:t>
            </a: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conomi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220-1B35-4219-AF44-3AC48BD3175E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ТОВАНИЕ  ФОНДОВ</a:t>
            </a:r>
            <a:br>
              <a:rPr sz="3600"/>
            </a:b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модели комплектования и управления фондами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сих пор очень важной задачей было комплектование самых больших фондов: это обозначало, с одной стороны, и богатство научных информационных ресурсов, предоставляемых научным сотрудникам, а с другой стороны, возвышало престиж институци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е информационные технологии  вызвали новые фундаментальные вопросы об изменении методов комплектования фондов и управления ними в академических библиотеках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169-66E2-40D6-A3D9-BE5811FD40C0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569-1E69-4857-B650-AF5FFFE2BDF4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Комплектование книг </a:t>
            </a:r>
            <a:br>
              <a:rPr sz="40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лектование польских публикаций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П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мплектует прежде всего польские фонды путём обязательного экземпляра, присвоенного библиотеке в 1927 году (современная версия закона: Закон об обязательных библиотечных экземплярах с 7 ноября 1996 г. + Распоряжение министра культуры и исскуства с 6 марта 1997 г. (список библиотек, получающих бесплатный обязательный экземпляр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«принт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 экз.) в библиотеки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й экземпляр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233-8CA9-4BE3-AB8F-3445E2D06C98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505C-7D06-42D8-974F-05FF41275455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Универсальный Каталог 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NUKAT)</a:t>
            </a:r>
            <a:r>
              <a:rPr b="1" lang="pl-PL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рытие традиционного (бумажного) каталога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(1995-1999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ществует и развивается с июля 20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свыше 1000 библиотекарей из 110 библиотек, которые работают в разных системах: Virtua, Horizon, Aleph, KOHA, Patron, Prolib, Q-Series, Expertus, INNOPAC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т две категории библиотек – сотрудников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KA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активные библиотеки (созлают библиографические и авторитетные записи, заимствуют и модифицируют их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ассивные библиотеки (лишь заимствуют запис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УК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предоставить информации об обработанном документ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устранить случаи дублирования запис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8B9-332A-49F0-8070-B7A520CEE70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D1DA-3725-4E97-BE32-7002F2E58691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циональный </a:t>
            </a:r>
            <a:r>
              <a:rPr b="1" lang="pl-PL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блиотечный фонд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ление Министра Культуры и Искусства от 1998 года, заключающее перечень библиотек, ресурсы которых составляют Национальный Библиотечный Фонд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сно распоряжению Министра библиотеки долж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план обеспечения фондов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рантировать безопасность фондов путём постройки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едохранительных единиц» (осуществление этого требования невозможно)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ить доступ к фондам исключительно для научных целей, а также для организации выставок, с соблюдением принципов безопасности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ть фонды путём оцифр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7907-3992-4ED1-A299-5FF6BD82BE51}" type="datetime">
              <a:rPr b="0" lang="pl-PL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Biblioteka Uniwersytecka w Poznani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DD1D-AB15-48D2-A9CB-19A1CB490E6B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Электронные библиотеки</a:t>
            </a:r>
            <a:br>
              <a:rPr sz="36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ше работают 53 электронные библиотеки, в которых находится свыше 400 000 единиц докумен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 программно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ое был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но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ьском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тевом центре. Для описани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ов употребляется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lin Cor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остоящий из 15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ymbol zastępczy daty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ymbol zastępczy stopki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Symbol zastępczy numeru slajdu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602-4258-4A67-8A81-75C31EA81C40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14:14Z</dcterms:created>
  <dc:creator>Emilia</dc:creator>
  <dc:description/>
  <dc:language>en-US</dc:language>
  <cp:lastModifiedBy>Marlena</cp:lastModifiedBy>
  <dcterms:modified xsi:type="dcterms:W3CDTF">2010-05-23T11:40:28Z</dcterms:modified>
  <cp:revision>136</cp:revision>
  <dc:subject/>
  <dc:title>Slajd 1</dc:title>
</cp:coreProperties>
</file>