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F9EB-FA5C-4584-8D8E-8382FD5D0B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BAE8-7581-47EF-AC11-845A8593B2D0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E2F5-8110-4E57-AD67-AAB1F517AA00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DEA-2FD3-4DF2-8109-5CA7911E8A8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71C4-34F2-4452-A415-120C1D180A1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797-671E-4FD1-A28B-4238125FF66C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AF6-868D-4513-AD67-31AA850B45AD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48BC-B8FC-419C-B57C-A3150E3E01B2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966-7548-404A-BD41-E0072FE1FAB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CE82-4042-45FD-B23E-D6D34A874883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1A01-9876-4E1A-891A-A2F1CC7E13F3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5D7-80A4-4C2A-A9DB-93C475ADF581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E2DB-711B-4F0B-8509-575CA081EF9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14E-2E2D-46EA-9FA0-6349DAB6559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B5E7-5083-4ECB-AF0B-461D244E0CDE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0816-80C0-46B3-A966-CC2A34D59F9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53F-F3E2-4B82-8F39-1C3ECBBA4C4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FDD-B9EC-4345-9957-D98A3D33BF2C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634-18B6-4BBB-9B81-9B3D0F12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FAF-0F98-45F3-BE0B-7FA42D78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CC6-6127-4959-B705-CDCE1D70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C9-4EB5-4AA8-916C-C9CBC1EC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9792-360B-4B09-AB98-7570C3DC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9E21-94EA-491E-BE3B-49A8AF95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D2F5-F57C-4677-BC02-BFD34F8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621D-B926-4EEC-8648-4F66F5E1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6B7-1E44-42BB-8112-369E23E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2DC6-962E-48B4-BD63-6F565D2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D10-0988-4F3E-B63B-FAA946A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A6C-2B14-4109-AC9E-64C5591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23F0-CAF1-42EE-B7D2-05DC8D1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C328-8861-41F7-9F8A-71E8708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56D4-D325-4871-BBC8-854C4CFE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0725-9C6B-48BB-B462-6A971F3A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5949-5067-4E33-BE41-E204C68B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BBE-205D-4E03-A61F-D9AA5177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5A4-FBFD-4608-8F85-1CD6FFC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608-2741-4A48-9A0B-B71BE027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60F-6730-44CE-B90E-D09C9AD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9D4-F8ED-4AB3-8989-9ED9006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8B4-BE85-4C89-B72E-3656F21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875-F482-47FC-A0F1-57C4831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B4D7-31E9-4A8E-B02F-B2ABC45EB7E2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A2E0-F086-4B72-ADDB-D2A6A6E98603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C316-23FF-466B-9ED3-0FD6445761DD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ED92-077E-4AED-83CE-3758B95E3EF4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lib.amu.edu.pl/images/stories/galerie_zdjec/remont_czytelni/a06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lib.amu.edu.pl/images/stories/galerie_zdjec/remont_czytelni/a04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amu.edu.pl/images/stories/wystawy/tb2010/9d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lib.amu.edu.pl/images/stories/wystawy/tb2010/10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менения в вузовских библиотеках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Польше в течение последних 20 лет  общие проблем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ib.amu.edu.pl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3" descr="Bez nazwy 13 - kopia"/>
          <p:cNvPicPr/>
          <p:nvPr/>
        </p:nvPicPr>
        <p:blipFill>
          <a:blip r:embed="rId1"/>
          <a:stretch/>
        </p:blipFill>
        <p:spPr>
          <a:xfrm>
            <a:off x="1143000" y="574992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2463840" y="5715000"/>
            <a:ext cx="18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ibliote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Uniwersytec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 Pozna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914400" y="55627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007 г. существует Федерация электронных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ая библиотека решает следующи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яет проблемы связанные с поиском материалов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щает, документы от испорчения (хрупкая, «кислая» бумага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егчает дидактический процесс (е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ает и ускоряет межбиблиотечный обмен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B722-314E-4552-9ADC-BA3F3E3F52DB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019C-C748-4737-BA6E-E58B7CEB53B5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уг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SimSun"/>
              </a:rPr>
              <a:t>Библиотеки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9720" y="15717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Раскрытие фондов библиотек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ьзователи могу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елать заказы через Интернет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ставить документ за собо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одлевать срок одолжения книг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учать мейлом заявления о приближающемся сроке сдач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кни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рганизация доступа к электронным ресурсам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мировым баз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журнал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книг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полным текст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электронные библиотек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системы HAN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HIDDEN  AUTOMATIC  NAWVIGATOR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или O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Log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DA12-36B5-45F8-95C5-503EC3A8AEFA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Межбиблиотечный обмен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ение межбиблиотечного обмена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разнообразных библиотечных систем, которые не всегда оснащены модулью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(interlibrary loan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уп в режим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нижает количеств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азов по межбиблиотечному обмену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emica”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-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C48-60C8-4BAC-9649-C7CFC6610FB0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9DC7-B882-44E5-9F34-939078DB425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r>
              <a:rPr b="1" lang="pl-PL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Library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 2.0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Интернет второй генерации —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We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2.0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едоставляет услуги по-другому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именяет новые, более интерактивные средства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обеспечает двусторонние контакты исотрудничество между пользователями и библиотекой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создание и оценку библиотечных усл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6CC-31D3-4865-8EEA-11C4CC4E9267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889-CA5F-4C42-A6D0-9FC9BAE5597A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тоги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прыжок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анализ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анализ библиотечных услуг сосредоточены н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нализах TQ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тратегических пла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даризац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вижение и предложение услу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99E3-EF47-4EB5-8EDF-982933CC898C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5BE7-4750-4CDD-B581-B7AFAF624F7D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28F-B439-4905-9DB9-5DCB83AC2407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1EEA-75B7-46A3-9717-0F9724E105AC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http://lib.amu.edu.pl/images/stories/galerie_zdjec/remont_czytelni/01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lib.amu.edu.pl/images/stories/galerie_zdjec/remont_czytelni/07.jpg"/>
          <p:cNvPicPr/>
          <p:nvPr/>
        </p:nvPicPr>
        <p:blipFill>
          <a:blip r:embed="rId2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Odnowione zabytkowe czyteln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357800"/>
            <a:ext cx="1238400" cy="1857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Odnowione zabytkowe czytel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642960"/>
            <a:ext cx="1238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1521-2B5D-4F73-91E8-BF8D2D6C4A71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C97-7914-42BA-8CE2-EDE0DA01FAFA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0" descr="Tydzień Bibliotek 08-15 V 2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4286160"/>
            <a:ext cx="123804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Tydzień Bibliotek 08-15 V 20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4286160"/>
            <a:ext cx="1238400" cy="185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http://lib.amu.edu.pl/images/stories/galerie_zdjec/tb_2010_wieczor/3d.jpg"/>
          <p:cNvPicPr/>
          <p:nvPr/>
        </p:nvPicPr>
        <p:blipFill>
          <a:blip r:embed="rId5"/>
          <a:stretch/>
        </p:blipFill>
        <p:spPr>
          <a:xfrm>
            <a:off x="1785960" y="35712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б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ним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800240" y="35809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ksandra Mikołaj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ena Olszew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Uniwersytec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. Ratajczaka 38/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-816 Pozna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SKA - PO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3510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 библиотеки печатных фондов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 библиотеке электронных ресурсов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Aleksandra Mikołaj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Helena Olszew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EFD-E5D5-48CA-BD57-A6D549D0ECBC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9ED7-8B8F-4E9C-B94B-70F068FA86A8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5B0F-9DCC-4D30-8425-9853517C2BBC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упка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х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од больших политических, экономических и общественных пере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сутствие управляющего центра и решительной общей государственной политики в сфере компьютеризации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нения, состоящие в компьютеризации всех библиотечно-информационных процессов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2400"/>
            </a:b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ое строительство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440" y="16430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989 года начались тоже работы при постройке современных библиотечных зданий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указаний известного бритийского архитектора, строителя многих библиотечных зданий –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ry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kner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е библиотеки должно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спосабливаемое «гибкое» (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) –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ирует на одной конструктивной модули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 компакт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act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удобная коммуникация: для читателей, библиотекарей и книг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 доступ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ccessible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свободный доступ для все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яемое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яжим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tendi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     неоднород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ried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возможность работы в разных условия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ganised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б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forta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гарантирующее хорошие условия окружающей среды и микроклимат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stant in environment) -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ение фондов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conomic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C5A5-F3D3-41AE-B5E5-4509976FEB9E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ТОВАНИЕ  ФОНДОВ</a:t>
            </a:r>
            <a:br>
              <a:rPr sz="3600"/>
            </a:b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модели комплектования и управления фондам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сих пор очень важной задачей было комплектование самых больших фондов: это обозначало, с одной стороны, и богатство научных информационных ресурсов, предоставляемых научным сотрудникам, а с другой стороны, возвышало престиж институци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информационные технологии  вызвали новые фундаментальные вопросы об изменении методов комплектования фондов и управления ними в академических библиотека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20F6-A765-47DC-AE31-FC8843B71B23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3AD-6A6D-489F-8421-2E9FA973694C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Комплектование книг </a:t>
            </a:r>
            <a:br>
              <a:rPr sz="40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лектование польских публикаций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П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омплектует прежде всего польские фонды путём обязательного экземпляра, присвоенного библиотеке в 1927 году (современная версия закона: Закон об обязательных библиотечных экземплярах с 7 ноября 1996 г. + Распоряжение министра культуры и исскуства с 6 марта 1997 г. (список библиотек, получающих бесплатный обязательный экземпля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«принт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 экз.) в библиотеки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ый экземпляр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A26-4236-4490-8D93-5A7BB1A4C3BB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C8E-1A57-43C4-AD6E-95CDC9A3C79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Универсальный Каталог 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NUKAT)</a:t>
            </a:r>
            <a:r>
              <a:rPr b="1" lang="pl-PL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рытие традиционного (бумажного) каталога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(1995-1999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ществует и развивается с июля 20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свыше 1000 библиотекарей из 110 библиотек, которые работают в разных системах: Virtua, Horizon, Aleph, KOHA, Patron, Prolib, Q-Series, Expertus, INNOPA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две категории библиотек – сотрудников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KA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активные библиотеки (созлают библиографические и авторитетные записи, заимствуют и модифицируют их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ассивные библиотеки (лишь заимствуют запис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НУКА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редоставить информации об обработанном документ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устранить случаи дублирования запис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F8C-EABB-4000-A368-A92111C784B3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F87-BFE1-40CC-89F2-AC3341C892A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й фонд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ление Министра Культуры и Искусства от 1998 года, заключающее перечень библиотек, ресурсы которых составляют Национальный Библиотечный Фонд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асно распоряжению Министра библиотеки долж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план обеспечения фондов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рантировать безопасность фондов путём постройки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едохранительных единиц» (осуществление этого требования невозможно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ить доступ к фондам исключительно для научных целей, а также для организации выставок, с соблюдением принципов безопасност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ть фонды путём оц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D48-628B-427C-B6D1-29CFB2A6DC95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BFC-EEF7-4A28-B705-4FACDC44AE46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ьше работают 53 электронные библиотеки, в которых находится свыше 400 000 единиц докумен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 программно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ое был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н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ьском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тевом центре. Для описани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ов употребляетс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blin Cor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остоящий из 15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5049-4FC6-4DFE-94C5-2B8A3028DBAD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14:14Z</dcterms:created>
  <dc:creator>Emilia</dc:creator>
  <dc:description/>
  <dc:language>en-US</dc:language>
  <cp:lastModifiedBy>Marlena</cp:lastModifiedBy>
  <dcterms:modified xsi:type="dcterms:W3CDTF">2010-05-23T11:40:28Z</dcterms:modified>
  <cp:revision>136</cp:revision>
  <dc:subject/>
  <dc:title>Slajd 1</dc:title>
</cp:coreProperties>
</file>