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8D31-A191-4E04-888D-E94E694743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E765-A42B-4C44-9152-F3F8A6A540A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3C14-FA9A-4600-96D6-C27979A2857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C5C1-C248-4A64-9D91-F8611E96F720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7B0-A9B2-4715-8683-6311AEBA7031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968-AB7F-4411-888B-1F561A12C01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135E-EE39-4E3E-A7C6-C62E5A8A491D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B2B3-FDE8-4714-9E6B-9A6355123801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016D-D186-496B-BF80-F4C4E62EECB0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3995-4A49-4CAA-BDA3-203CFE5B7A78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17F-0013-4609-A2D2-68B6790F6431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E791-B313-44AA-BF3A-3C8C4A15C06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BD9-B33A-4C01-9CF4-2E879DB13182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D63B-51F2-41AE-AF96-468FDC5E96B9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B4C6-F25C-41FB-8365-EC354CD7BD9B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0BF-774D-480B-9C2E-35C0AD4BB96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C1F0-331B-40D0-AF23-4CB7D1CC13A9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4BB2-8FD9-49D0-AD5B-0D3C24D9AF9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E99-F3A0-439A-84B4-0F522871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77F-4916-4FD3-981A-BE710D2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C1B-5CCC-407F-AB08-FF351E2B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D2E-5EDB-4D1A-BBDF-89ABF2AD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6DA6-514C-4F7C-8088-EF8DAF30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6C44-7A49-41CA-868A-05E7D49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8FF2-4F88-46F8-8842-C441F20B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88A3-86F5-473F-98F6-3A9844C1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92E-5410-4D64-A037-AA7A7CD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127-B6F1-496C-96FE-EA87C599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2D4D-BFEA-41C4-BF0A-4AEAF5D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B5F-EA6B-4F36-9101-E3916B97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8107-2AE0-42AD-A658-F27C5D8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9A37-0B88-4FC2-92DC-E390AA4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12C5-54F2-46C9-B0C1-51DC0AC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1F4A-C60E-480B-8CAB-73E919B9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6D66-6897-4E4C-8B44-3C291F07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322-D300-4727-B9B3-1F47D7D8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4F0-842C-4A54-A198-7E1A411C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6DE-465A-4DA3-99A3-F349819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4B3-7A58-4A67-BA43-42C04796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04F-D0B3-417B-B1D9-CAF6E33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EF4-A454-452E-A497-B2ECCBA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E36-1D07-4108-A130-2752D14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A30-1802-4E28-BB03-6605E5BB02C8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002-A8A7-4127-973E-386598558105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8E4-BD6A-4076-98D7-DDA423F780DA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0F2-33A5-413F-813D-89590DC22D6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lib.amu.edu.pl/images/stories/galerie_zdjec/remont_czytelni/a0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lib.amu.edu.pl/images/stories/galerie_zdjec/remont_czytelni/a04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amu.edu.pl/images/stories/wystawy/tb2010/9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lib.amu.edu.pl/images/stories/wystawy/tb2010/10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менения в вузовских библиотеках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Польше в течение последних 20 лет  общие проблем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ib.amu.edu.pl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3" descr="Bez nazwy 13 - kopia"/>
          <p:cNvPicPr/>
          <p:nvPr/>
        </p:nvPicPr>
        <p:blipFill>
          <a:blip r:embed="rId1"/>
          <a:stretch/>
        </p:blipFill>
        <p:spPr>
          <a:xfrm>
            <a:off x="1143000" y="574992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2463840" y="571500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ibliote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niwersytec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 Pozna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914400" y="55627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7 г. существует Федерация электронных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библиотека решает следующ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яет проблемы связанные с поиском материалов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щает, документы от испорчения (хрупкая, «кислая» бумага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егчает дидактический процесс (е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ает и ускоряет межбиблиотечный обмен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CE5-4439-4BD0-8C20-CD91805B3964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38C-02E5-433A-8237-5CBFA1BDE6E1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уг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SimSun"/>
              </a:rPr>
              <a:t>Библиотеки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9720" y="15717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Раскрытие фондов библиотек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ьзователи мог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лать заказы через Интернет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ставить документ за собо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одлевать срок одолжения книг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учать мейлом заявления о приближающемся сроке сдач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кни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рганизация доступа к электронным ресурсам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мировым баз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журнал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книг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полным текст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электронные библиотек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системы HAN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HIDDEN  AUTOMATIC  NAWVIGATOR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или 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Log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E101-1ABE-4208-A40F-CDC9A86311D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Межбиблиотечный обме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ение межбиблиотечного обмена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разнообразных библиотечных систем, которые не всегда оснащены модулью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(interlibrary loan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уп в режим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нижает количеств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азов по межбиблиотечному обмену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a”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-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CF11-4DCF-4029-9318-01E29A2F6B88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01A-870A-4A2F-92FA-EB6CBD6583C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Library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 2.0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тернет второй генерации —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We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2.0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едоставляет услуги по-другому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именяет новые, более интерактивные средства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обеспечает двусторонние контакты исотрудничество между пользователями и библиотекой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оздание и оценку библиотечных усл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E53-DA45-48E9-AA53-76EC1577D772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024-93B0-4365-8600-1EDECBFB9C7D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тоги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прыжок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анализ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анализ библиотечных услуг сосредоточены н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нализах TQ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тратегических пл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дариз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вижение и предложение услу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B97A-CC4E-4807-9D1D-DD78F5652B4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710D-D4A6-402C-913A-654E8FA72D7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B5D-A442-4448-8525-FAA2E88F151C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0E6-F14D-487A-A8C1-24A641C4CF02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http://lib.amu.edu.pl/images/stories/galerie_zdjec/remont_czytelni/01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lib.amu.edu.pl/images/stories/galerie_zdjec/remont_czytelni/07.jpg"/>
          <p:cNvPicPr/>
          <p:nvPr/>
        </p:nvPicPr>
        <p:blipFill>
          <a:blip r:embed="rId2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Odnowione zabytkowe czytel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357800"/>
            <a:ext cx="1238400" cy="185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Odnowione zabytkowe czytel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642960"/>
            <a:ext cx="1238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75CC-2FD8-43FC-9C73-0C000DA653AB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AEC-3FF4-4A7C-B38D-B3488C5FC9CE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0" descr="Tydzień Bibliotek 08-15 V 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286160"/>
            <a:ext cx="123804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Tydzień Bibliotek 08-15 V 20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286160"/>
            <a:ext cx="1238400" cy="18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http://lib.amu.edu.pl/images/stories/galerie_zdjec/tb_2010_wieczor/3d.jpg"/>
          <p:cNvPicPr/>
          <p:nvPr/>
        </p:nvPicPr>
        <p:blipFill>
          <a:blip r:embed="rId5"/>
          <a:stretch/>
        </p:blipFill>
        <p:spPr>
          <a:xfrm>
            <a:off x="1785960" y="35712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б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ним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800240" y="35809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ksandra Mikołaj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ena Olszew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Uniwersytec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. Ratajczaka 38/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-816 Pozn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SKA - PO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3510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 библиотеки печатных фондов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 библиотеке электронных ресурсов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Aleksandra Mikołaj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Helena Olszew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4C5-CBEC-41E6-8C0B-513097B9CB9D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7A2C-9BBF-45F5-9D12-5900B80725D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8E10-BB74-4CC7-A300-7162E9D606B6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упка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х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од больших политических, экономических и общественных пере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сутствие управляющего центра и решительной общей государственной политики в сфере компьютеризации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нения, состоящие в компьютеризации всех библиотечно-информационных процессов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400"/>
            </a:b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ое строительство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440" y="16430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989 года начались тоже работы при постройке современных библиотечных зданий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указаний известного бритийского архитектора, строителя многих библиотечных зданий –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ry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kner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е библиотеки должно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спосабливаемое «гибкое» (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) –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ирует на одной конструктивной модули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 компакт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act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удобная коммуникация: для читателей, библиотекарей и книг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 доступ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ccessible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свободный доступ для все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яемое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яжим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tendi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     неоднород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ried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возможность работы в разных условия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ganised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б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forta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гарантирующее хорошие условия окружающей среды и микроклимат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stant in environment) -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ение фондов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conomi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415-EF53-4723-B1E7-A75FECDE868C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ОВАНИЕ  ФОНДОВ</a:t>
            </a:r>
            <a:br>
              <a:rPr sz="3600"/>
            </a:b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модели комплектования и управления фондам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их пор очень важной задачей было комплектование самых больших фондов: это обозначало, с одной стороны, и богатство научных информационных ресурсов, предоставляемых научным сотрудникам, а с другой стороны, возвышало престиж институци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информационные технологии  вызвали новые фундаментальные вопросы об изменении методов комплектования фондов и управления ними в академических библиотека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99A-2212-4C17-9E5E-6B923BDA40FC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F3C-EFF0-402E-9B85-C99FF4B8D8D8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Комплектование книг </a:t>
            </a:r>
            <a:br>
              <a:rPr sz="40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лектование польских публикаций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мплектует прежде всего польские фонды путём обязательного экземпляра, присвоенного библиотеке в 1927 году (современная версия закона: Закон об обязательных библиотечных экземплярах с 7 ноября 1996 г. + Распоряжение министра культуры и исскуства с 6 марта 1997 г. (список библиотек, получающих бесплатный обязательный экземпля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«принт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экз.) в библиотеки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й экземпляр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0DB7-A53A-4049-BD3C-EDDBAB9DF77F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1B4-798F-40A3-A125-2EEE2212FB85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Универсальный Каталог 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NUKAT)</a:t>
            </a:r>
            <a:r>
              <a:rPr b="1" lang="pl-PL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рытие традиционного (бумажного) каталога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(1995-199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ществует и развивается с июля 20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свыше 1000 библиотекарей из 110 библиотек, которые работают в разных системах: Virtua, Horizon, Aleph, KOHA, Patron, Prolib, Q-Series, Expertus, INNOPA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две категории библиотек – сотрудников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KA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активные библиотеки (созлают библиографические и авторитетные записи, заимствуют и модифицируют их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ассивные библиотеки (лишь заимствуют запис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УК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редоставить информации об обработанном документ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устранить случаи дублирования запис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3EA1-2987-458C-B4DC-9335D2B944D6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B66-27D4-41D1-A4E6-4E6B16A10E8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й фонд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ление Министра Культуры и Искусства от 1998 года, заключающее перечень библиотек, ресурсы которых составляют Национальный Библиотечный Фонд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сно распоряжению Министра библиотеки долж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план обеспечения фондов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рантировать безопасность фондов путём постройки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едохранительных единиц» (осуществление этого требования невозможно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ить доступ к фондам исключительно для научных целей, а также для организации выставок, с соблюдением принципов безопасност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ть фонды путём оц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592-1E1B-41FB-9351-949BD32885CE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600-BF08-4C59-9EAA-38B73188424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ше работают 53 электронные библиотеки, в которых находится свыше 400 000 единиц докумен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программно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ое был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ьском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тевом центре. Для описани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ов употребляетс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lin Cor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остоящий из 15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C1E-66EB-43A1-A0B5-8205712A6F7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14:14Z</dcterms:created>
  <dc:creator>Emilia</dc:creator>
  <dc:description/>
  <dc:language>en-US</dc:language>
  <cp:lastModifiedBy>Marlena</cp:lastModifiedBy>
  <dcterms:modified xsi:type="dcterms:W3CDTF">2010-05-23T11:40:28Z</dcterms:modified>
  <cp:revision>136</cp:revision>
  <dc:subject/>
  <dc:title>Slajd 1</dc:title>
</cp:coreProperties>
</file>