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F483-4ADB-4445-8079-9F210FC392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7D08-D662-43E6-8E45-C0AD4290501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93F2-5CAB-4A13-BC8A-CDCBFF30810E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4400-1DB2-4D6A-B6CD-CC6AF8A7198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D8F-090A-4355-8915-548605D52944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180F-655B-44A5-9663-81D3B467BC74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0B73-2AFE-4AF5-9A0E-9AC835E16D9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190F-EF08-4AA4-B29B-473456BC1C1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8ED1-ADB9-4814-8F5B-8C1D9A1EEA78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D54D-5A22-4307-8DDD-B07631DA0C5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94CD-1A95-4206-BBF7-64AC939BE62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5A33-BFB2-452C-A2A0-D5FEE010D3CD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3E79-766F-4700-AC2D-07200225488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4C25-BF45-48F9-94F0-428252E3D17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0CFE-85CA-4855-A6D0-8733D1151D0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7862-1CB5-47B4-B627-403B15153B32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640-8993-4237-85B7-08A902198BD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4FD5-C406-4B3B-B2DC-CF7544E1527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002-3872-4BFF-B090-8534F5B0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6FC-7BA5-4697-A605-E9CA4B36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DDE-A77B-4A04-8F07-CBD6741C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1D6-426C-40F8-899C-B41FE6E6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D2C5-F502-4215-B4A4-AF4E3BF3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03BF-AD64-43AF-B384-DBB3FBE5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AA6A-68CD-4693-B83D-E9935297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41C-A26E-4A22-BDAA-AB1C9DF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DC73-0FCD-4F69-959F-90DCF657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4E2-6512-4620-8E6C-9BDFB35A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58B4-BECD-41BD-B181-4225B57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B2F-4D67-4772-9F60-5BC99F3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D1F4-0B39-415E-A9B6-7B9CD7C1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2EB2-FC19-4065-AF64-1853455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BCB4-2FF4-4405-BD28-1DDEC50F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17AB-3DE7-4443-8AFD-6F53C034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920C-DB39-42C8-869A-E0BD705E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DEB-D934-40A5-8E47-29E2119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003-0AAA-471D-BAF9-EC6D2324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501-C151-434A-B953-BA1F5A9B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96B-2486-4E48-87DB-5B19744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2F9-5603-47D2-B061-BC5233E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FC2-B9D8-489E-A4A2-2A9A8937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FE3-A33D-4759-A6AE-B86DD5C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39AA-EE11-4AD9-87E0-B478105ADFC4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DB9F-3420-4EB3-B84E-06E3F1FA018A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720C-165B-4AEB-8F4B-569C31013B52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D29F-B662-4D07-8DA8-53843A2793F1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lib.amu.edu.pl/images/stories/galerie_zdjec/remont_czytelni/a06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lib.amu.edu.pl/images/stories/galerie_zdjec/remont_czytelni/a04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amu.edu.pl/images/stories/wystawy/tb2010/9d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lib.amu.edu.pl/images/stories/wystawy/tb2010/10d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менения в вузовских библиотеках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Польше в течение последних 20 лет  общие проблем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ib.amu.edu.pl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3" descr="Bez nazwy 13 - kopia"/>
          <p:cNvPicPr/>
          <p:nvPr/>
        </p:nvPicPr>
        <p:blipFill>
          <a:blip r:embed="rId1"/>
          <a:stretch/>
        </p:blipFill>
        <p:spPr>
          <a:xfrm>
            <a:off x="1143000" y="574992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2463840" y="5715000"/>
            <a:ext cx="18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Bibliote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Uniwersytec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 Poznan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914400" y="55627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2007 г. существует Федерация электронных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ая библиотека решает следующи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яет проблемы связанные с поиском материалов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щает, документы от испорчения (хрупкая, «кислая» бумага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егчает дидактический процесс (е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ает и ускоряет межбиблиотечный обмен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F551-A879-4EBD-AF61-4D3F9055311F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228-CA9D-4593-B0E4-6F8C5215AB09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луг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SimSun"/>
              </a:rPr>
              <a:t>Библиотеки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9720" y="15717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Раскрытие фондов библиотек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ьзователи могу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елать заказы через Интернет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ставить документ за собой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одлевать срок одолжения книг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учать мейлом заявления о приближающемся сроке сдач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кни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рганизация доступа к электронным ресурсам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мировым баз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журнал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книг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полным текст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электронные библиотек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системы HAN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HIDDEN  AUTOMATIC  NAWVIGATOR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или O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Log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3343-6A45-49B6-8204-1F3A708CDCE5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Межбиблиотечный обмен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ение межбиблиотечного обмена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разнообразных библиотечных систем, которые не всегда оснащены модулью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(interlibrary loan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уп в режим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нижает количеств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азов по межбиблиотечному обмену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emica”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-2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3F84-2624-4AD7-A615-C0CBC8395E92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E8A6-5741-4695-805D-4C915721E6E9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r>
              <a:rPr b="1" lang="pl-PL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Library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 2.0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Интернет второй генерации —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We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2.0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едоставляет услуги по-другому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именяет новые, более интерактивные средства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обеспечает двусторонние контакты исотрудничество между пользователями и библиотекой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создание и оценку библиотечных усл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E429-50E1-4F0E-8650-5EFFCB7C3043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3833-77DC-4A95-A13E-EC64E2B7CACF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тоги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прыжок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анализ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анализ библиотечных услуг сосредоточены н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нализах TQ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тратегических пла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даризац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вижение и предложение услу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CB7-93F7-4C3F-9E90-2493538E8472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AF17-B105-4C34-958D-F12AF1774ED8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17F6-CAFD-4C0A-8BF5-3E132FC40801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213F-D389-4745-A0BC-5A92A8F36D41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http://lib.amu.edu.pl/images/stories/galerie_zdjec/remont_czytelni/01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lib.amu.edu.pl/images/stories/galerie_zdjec/remont_czytelni/07.jpg"/>
          <p:cNvPicPr/>
          <p:nvPr/>
        </p:nvPicPr>
        <p:blipFill>
          <a:blip r:embed="rId2"/>
          <a:stretch/>
        </p:blipFill>
        <p:spPr>
          <a:xfrm>
            <a:off x="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Odnowione zabytkowe czyteln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357800"/>
            <a:ext cx="1238400" cy="1857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Odnowione zabytkowe czytel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1720" y="642960"/>
            <a:ext cx="1238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C061-E6BC-4BCC-8569-A750F557905C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DBB2-469E-48B0-BBCC-C20C67C2A18B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20" descr="Tydzień Bibliotek 08-15 V 2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4286160"/>
            <a:ext cx="1238040" cy="185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Tydzień Bibliotek 08-15 V 20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43120" y="4286160"/>
            <a:ext cx="1238400" cy="185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http://lib.amu.edu.pl/images/stories/galerie_zdjec/tb_2010_wieczor/3d.jpg"/>
          <p:cNvPicPr/>
          <p:nvPr/>
        </p:nvPicPr>
        <p:blipFill>
          <a:blip r:embed="rId5"/>
          <a:stretch/>
        </p:blipFill>
        <p:spPr>
          <a:xfrm>
            <a:off x="1785960" y="35712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б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ним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800240" y="35809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ksandra Mikołaj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ena Olszew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Uniwersytec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. Ratajczaka 38/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-816 Pozna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SKA - PO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3510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 библиотеки печатных фондов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 библиотеке электронных ресурсов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Aleksandra Mikołaj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Helena Olszew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0AC3-AC40-468A-8A60-9DF761875C91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ADB5-F612-4A05-B534-0985F86EF6CD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358D-1B5F-4191-946B-D6FF23E60150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упка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х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од больших политических, экономических и общественных перем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сутствие управляющего центра и решительной общей государственной политики в сфере компьютеризации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нения, состоящие в компьютеризации всех библиотечно-информационных процессов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2400"/>
            </a:b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ое строительство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28440" y="16430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989 года начались тоже работы при постройке современных библиотечных зданий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указаний известного бритийского архитектора, строителя многих библиотечных зданий –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ry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kner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е библиотеки должно б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спосабливаемое «гибкое» (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) –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зирует на одной конструктивной модули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    компакт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act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удобная коммуникация: для читателей, библиотекарей и книг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    доступ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ccessible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свободный доступ для все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яемое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яжим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tendi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     неоднород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ried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возможность работы в разных условия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н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ganised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б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forta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гарантирующее хорошие условия окружающей среды и микроклимат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stant in environment) -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ение фондов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cur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conomic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7F8-2CDE-46AE-9552-AF6CC633B0A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ТОВАНИЕ  ФОНДОВ</a:t>
            </a:r>
            <a:br>
              <a:rPr sz="3600"/>
            </a:b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модели комплектования и управления фондам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сих пор очень важной задачей было комплектование самых больших фондов: это обозначало, с одной стороны, и богатство научных информационных ресурсов, предоставляемых научным сотрудникам, а с другой стороны, возвышало престиж институци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информационные технологии  вызвали новые фундаментальные вопросы об изменении методов комплектования фондов и управления ними в академических библиотека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4E54-3483-404E-B3AC-BC31B4A87A35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CA6D-D593-40ED-BC4D-DD2BEADBF888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Комплектование книг </a:t>
            </a:r>
            <a:br>
              <a:rPr sz="40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лектование польских публикаций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П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омплектует прежде всего польские фонды путём обязательного экземпляра, присвоенного библиотеке в 1927 году (современная версия закона: Закон об обязательных библиотечных экземплярах с 7 ноября 1996 г. + Распоряжение министра культуры и исскуства с 6 марта 1997 г. (список библиотек, получающих бесплатный обязательный экземпля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в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«принт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 экз.) в библиотеки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ый экземпляр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26E1-B528-449A-857A-E7FB58A67442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269D-0195-4FF6-9AAE-7254F9072A29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Универсальный Каталог 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NUKAT)</a:t>
            </a:r>
            <a:r>
              <a:rPr b="1" lang="pl-PL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рытие традиционного (бумажного) каталога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(1995-1999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ществует и развивается с июля 20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-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свыше 1000 библиотекарей из 110 библиотек, которые работают в разных системах: Virtua, Horizon, Aleph, KOHA, Patron, Prolib, Q-Series, Expertus, INNOPA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т две категории библиотек – сотрудников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KA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активные библиотеки (созлают библиографические и авторитетные записи, заимствуют и модифицируют их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ассивные библиотеки (лишь заимствуют запис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НУКА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редоставить информации об обработанном документ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устранить случаи дублирования запис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B6C-4BF3-4823-832F-52D9755C3353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EB35-CEFE-4BC0-97D6-568B604AA973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й фонд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ление Министра Культуры и Искусства от 1998 года, заключающее перечень библиотек, ресурсы которых составляют Национальный Библиотечный Фонд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асно распоряжению Министра библиотеки долж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план обеспечения фондов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рантировать безопасность фондов путём постройки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едохранительных единиц» (осуществление этого требования невозможно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ить доступ к фондам исключительно для научных целей, а также для организации выставок, с соблюдением принципов безопасност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ть фонды путём оцифр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20D-D68D-453A-B044-424302092237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525F-F4F3-4683-8808-6C7A73FC1F54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ьше работают 53 электронные библиотеки, в которых находится свыше 400 000 единиц докумен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нств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 программно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ое был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н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ньском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тевом центре. Для описани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ов употребляетс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blin Cor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остоящий из 15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5726-57C4-4FDE-845E-A265BE0AD58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14:14Z</dcterms:created>
  <dc:creator>Emilia</dc:creator>
  <dc:description/>
  <dc:language>en-US</dc:language>
  <cp:lastModifiedBy>Marlena</cp:lastModifiedBy>
  <dcterms:modified xsi:type="dcterms:W3CDTF">2010-05-23T11:40:28Z</dcterms:modified>
  <cp:revision>136</cp:revision>
  <dc:subject/>
  <dc:title>Slajd 1</dc:title>
</cp:coreProperties>
</file>